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E96-CF34-40E5-95A2-E672AA3A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60E-6453-4E70-BC8E-CEEF51A2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F15-3ED3-413A-AA8C-F78D7FBD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20F-3F1A-4FC2-B174-1486A171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2FFD-E7A0-403A-9DF9-2F672D3E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F8BA-C5E9-49DB-9BEC-970819BB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327D-5B0F-429E-94C6-3D32C9FB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CAA2-E6D0-451E-8F03-5EA1DB74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0541-8431-4C9F-A1D6-1A4329D2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A7C0-A539-45B3-A5A5-719CD988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AE45-B46E-4BE9-A0CA-06121B2C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4AC-BB84-4235-97E2-7008FF4B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D1E6-5285-4A8B-9E36-DB14E4E0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2EB0-1F84-43F9-A7FD-76E698B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32FC-5F66-45F3-BDED-91210DF6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FCA3-6F29-4268-A316-66B8DBFC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4B9A-AF43-4B0E-A8C7-A96F73C8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C13-4E7B-44B3-A6EB-E3A4A356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053-0A3E-4744-97C3-0374F5E3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2B5-0136-49AE-84D7-EEC1571F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656-905A-424C-9D72-3729A6C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D9D-DE15-404E-A452-CD341E4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C72-46D7-4575-87B5-FF9A3CD2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F01-3254-4BF4-BA14-6C45153B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B415-8FF8-43F5-869A-CB84E9B2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FAAE-61F4-4AE1-B835-511F5F57B85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8910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deralism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vision of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1640" y="5662440"/>
            <a:ext cx="7553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pter 4, Section 1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33520" y="1676520"/>
            <a:ext cx="807696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447920" y="1523880"/>
            <a:ext cx="60958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nied Both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h States and National have been denied these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olate rights of citize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AutoShape 11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33520" y="1855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AutoShape 13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Text Box 19"/>
          <p:cNvSpPr/>
          <p:nvPr/>
        </p:nvSpPr>
        <p:spPr>
          <a:xfrm rot="20140800">
            <a:off x="74160" y="1295280"/>
            <a:ext cx="24382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c1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XCLUSIV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9"/>
          <p:cNvGrpSpPr/>
          <p:nvPr/>
        </p:nvGrpSpPr>
        <p:grpSpPr>
          <a:xfrm>
            <a:off x="2438280" y="838080"/>
            <a:ext cx="4343400" cy="2498760"/>
            <a:chOff x="2438280" y="838080"/>
            <a:chExt cx="4343400" cy="2498760"/>
          </a:xfrm>
        </p:grpSpPr>
        <p:pic>
          <p:nvPicPr>
            <p:cNvPr id="182" name="Picture 22" descr=""/>
            <p:cNvPicPr/>
            <p:nvPr/>
          </p:nvPicPr>
          <p:blipFill>
            <a:blip r:embed="rId1"/>
            <a:stretch/>
          </p:blipFill>
          <p:spPr>
            <a:xfrm>
              <a:off x="3200400" y="914400"/>
              <a:ext cx="2514600" cy="24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3" descr=""/>
            <p:cNvPicPr/>
            <p:nvPr/>
          </p:nvPicPr>
          <p:blipFill>
            <a:blip r:embed="rId2"/>
            <a:stretch/>
          </p:blipFill>
          <p:spPr>
            <a:xfrm>
              <a:off x="6019920" y="1447920"/>
              <a:ext cx="7617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4" descr=""/>
            <p:cNvPicPr/>
            <p:nvPr/>
          </p:nvPicPr>
          <p:blipFill>
            <a:blip r:embed="rId3"/>
            <a:stretch/>
          </p:blipFill>
          <p:spPr>
            <a:xfrm>
              <a:off x="2438280" y="13716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5" descr=""/>
            <p:cNvPicPr/>
            <p:nvPr/>
          </p:nvPicPr>
          <p:blipFill>
            <a:blip r:embed="rId4"/>
            <a:stretch/>
          </p:blipFill>
          <p:spPr>
            <a:xfrm>
              <a:off x="2895480" y="2209680"/>
              <a:ext cx="76212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6" descr=""/>
            <p:cNvPicPr/>
            <p:nvPr/>
          </p:nvPicPr>
          <p:blipFill>
            <a:blip r:embed="rId5"/>
            <a:stretch/>
          </p:blipFill>
          <p:spPr>
            <a:xfrm>
              <a:off x="5410080" y="22860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7" descr=""/>
            <p:cNvPicPr/>
            <p:nvPr/>
          </p:nvPicPr>
          <p:blipFill>
            <a:blip r:embed="rId6"/>
            <a:stretch/>
          </p:blipFill>
          <p:spPr>
            <a:xfrm>
              <a:off x="4952880" y="9144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8" descr=""/>
            <p:cNvPicPr/>
            <p:nvPr/>
          </p:nvPicPr>
          <p:blipFill>
            <a:blip r:embed="rId7"/>
            <a:stretch/>
          </p:blipFill>
          <p:spPr>
            <a:xfrm>
              <a:off x="3429000" y="838080"/>
              <a:ext cx="762120" cy="73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upremacy Clause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rticle VI, Section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76720" y="5943600"/>
            <a:ext cx="2286000" cy="916920"/>
          </a:xfrm>
          <a:prstGeom prst="rect">
            <a:avLst/>
          </a:prstGeom>
          <a:solidFill>
            <a:srgbClr val="ff151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ty and County Charters and Ordinan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91" name="Group 15"/>
          <p:cNvGrpSpPr/>
          <p:nvPr/>
        </p:nvGrpSpPr>
        <p:grpSpPr>
          <a:xfrm>
            <a:off x="3352680" y="4876920"/>
            <a:ext cx="2210040" cy="1066680"/>
            <a:chOff x="3352680" y="4876920"/>
            <a:chExt cx="2210040" cy="1066680"/>
          </a:xfrm>
        </p:grpSpPr>
        <p:sp>
          <p:nvSpPr>
            <p:cNvPr id="192" name="Text Box 6"/>
            <p:cNvSpPr/>
            <p:nvPr/>
          </p:nvSpPr>
          <p:spPr>
            <a:xfrm>
              <a:off x="3352680" y="4876920"/>
              <a:ext cx="2210040" cy="642600"/>
            </a:xfrm>
            <a:prstGeom prst="rect">
              <a:avLst/>
            </a:prstGeom>
            <a:solidFill>
              <a:srgbClr val="ff1515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ate Statues (laws)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962520" y="548640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94" name="Group 16"/>
          <p:cNvGrpSpPr/>
          <p:nvPr/>
        </p:nvGrpSpPr>
        <p:grpSpPr>
          <a:xfrm>
            <a:off x="3352680" y="3962520"/>
            <a:ext cx="2210040" cy="914400"/>
            <a:chOff x="3352680" y="3962520"/>
            <a:chExt cx="2210040" cy="914400"/>
          </a:xfrm>
        </p:grpSpPr>
        <p:sp>
          <p:nvSpPr>
            <p:cNvPr id="195" name="Text Box 7"/>
            <p:cNvSpPr/>
            <p:nvPr/>
          </p:nvSpPr>
          <p:spPr>
            <a:xfrm>
              <a:off x="3352680" y="3962520"/>
              <a:ext cx="2210040" cy="642600"/>
            </a:xfrm>
            <a:prstGeom prst="rect">
              <a:avLst/>
            </a:prstGeom>
            <a:solidFill>
              <a:srgbClr val="ff1515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ate Constitutions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6" name="AutoShape 12"/>
            <p:cNvSpPr/>
            <p:nvPr/>
          </p:nvSpPr>
          <p:spPr>
            <a:xfrm>
              <a:off x="3962520" y="441972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97" name="Group 17"/>
          <p:cNvGrpSpPr/>
          <p:nvPr/>
        </p:nvGrpSpPr>
        <p:grpSpPr>
          <a:xfrm>
            <a:off x="3352680" y="2971800"/>
            <a:ext cx="2210040" cy="990720"/>
            <a:chOff x="3352680" y="2971800"/>
            <a:chExt cx="2210040" cy="990720"/>
          </a:xfrm>
        </p:grpSpPr>
        <p:sp>
          <p:nvSpPr>
            <p:cNvPr id="198" name="Text Box 8"/>
            <p:cNvSpPr/>
            <p:nvPr/>
          </p:nvSpPr>
          <p:spPr>
            <a:xfrm>
              <a:off x="3352680" y="2971800"/>
              <a:ext cx="2210040" cy="368280"/>
            </a:xfrm>
            <a:prstGeom prst="rect">
              <a:avLst/>
            </a:prstGeom>
            <a:solidFill>
              <a:srgbClr val="381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cts of Congress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9" name="AutoShape 13"/>
            <p:cNvSpPr/>
            <p:nvPr/>
          </p:nvSpPr>
          <p:spPr>
            <a:xfrm>
              <a:off x="3962520" y="350532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3352680" y="1828800"/>
            <a:ext cx="2210040" cy="1143000"/>
            <a:chOff x="3352680" y="1828800"/>
            <a:chExt cx="2210040" cy="1143000"/>
          </a:xfrm>
        </p:grpSpPr>
        <p:sp>
          <p:nvSpPr>
            <p:cNvPr id="201" name="Text Box 9"/>
            <p:cNvSpPr/>
            <p:nvPr/>
          </p:nvSpPr>
          <p:spPr>
            <a:xfrm>
              <a:off x="3352680" y="1828800"/>
              <a:ext cx="2210040" cy="642600"/>
            </a:xfrm>
            <a:prstGeom prst="rect">
              <a:avLst/>
            </a:prstGeom>
            <a:solidFill>
              <a:srgbClr val="381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United States Constitution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2" name="AutoShape 14"/>
            <p:cNvSpPr/>
            <p:nvPr/>
          </p:nvSpPr>
          <p:spPr>
            <a:xfrm>
              <a:off x="3962520" y="251460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03" name="Text Box 19"/>
          <p:cNvSpPr/>
          <p:nvPr/>
        </p:nvSpPr>
        <p:spPr>
          <a:xfrm>
            <a:off x="5562720" y="22860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The U.S. Constitution is the </a:t>
            </a:r>
            <a:r>
              <a:rPr b="1" lang="en-US" sz="3600" spc="-1" strike="noStrike">
                <a:solidFill>
                  <a:srgbClr val="ff1515"/>
                </a:solidFill>
                <a:latin typeface="Verdana"/>
              </a:rPr>
              <a:t>“Supreme Law of the Land.”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85800" y="281952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f there is a conflict between a lower law and a higher one, the higher one “wins.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AutoShape 12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533520" y="1855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AutoShape 14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AutoShape 11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5562720" y="2057400"/>
            <a:ext cx="31240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xpress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pelled out in the Constitu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ticle I, Section 18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18 clauses giving 27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Tax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Coin mone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Regulate trad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Declare wa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Grant pat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AutoShape 7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562720" y="2057400"/>
            <a:ext cx="3124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mpli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ot written in Constitution, but reasonably suggest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ticle I, Section 18, Clause 18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ecessary and proper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he Elastic Clau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Build dam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Highways &amp; road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Determine crim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AutoShape 7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562720" y="2057400"/>
            <a:ext cx="3124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nherent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ot written in Constitution, but belong to national governm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gulate immigr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ant diplomatic recognition to na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tect the n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914400" y="4114800"/>
            <a:ext cx="4343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562720" y="2057400"/>
            <a:ext cx="3352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ni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Expressly denie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fringe on rights (speech, press, etc.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Silence in Constitution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nly has 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Denied in Federal System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n’t tax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657600" y="4114800"/>
            <a:ext cx="4495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AutoShape 13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28600" y="2133720"/>
            <a:ext cx="312408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Reserved Power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Not granted to Federal, but not denied to states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Legal marriage ag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Drinking ag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Professional licen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Confiscate propert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The power of the state to protect and promote public health, the public morals, the public safety, and the general welfare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3657600" y="4114800"/>
            <a:ext cx="4495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28600" y="2133720"/>
            <a:ext cx="37339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Denied State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Constitution denies certain powers to state, because they are NOT a federal governmen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Make treatie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Print mone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Deny rights to citize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533520" y="4114800"/>
            <a:ext cx="807696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47920" y="4191120"/>
            <a:ext cx="6095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urrent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h States and National have these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y be exercised separately and simultaneousl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lect tax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 crim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emn or take private property for public u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3:07:27Z</dcterms:created>
  <dc:creator>davidm</dc:creator>
  <dc:description/>
  <dc:language>en-US</dc:language>
  <cp:lastModifiedBy>hberndt</cp:lastModifiedBy>
  <dcterms:modified xsi:type="dcterms:W3CDTF">2009-10-05T12:56:45Z</dcterms:modified>
  <cp:revision>7</cp:revision>
  <dc:subject/>
  <dc:title>Federalism</dc:title>
</cp:coreProperties>
</file>